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6498E-B746-4618-86FD-2EF073AC5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D88A-620D-4FDB-BDDB-40995668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7E807F-C1B0-486E-8F73-70A2FD481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F198E-E35B-4647-A744-7E687C944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40EB5F-F2F3-48CE-BFA8-D73DCA81F3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82C1A-EB10-4662-AA0B-CCE57C669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49477-F89F-4F2E-89EB-B7EEBB44C5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4A3EC-4D9E-40EC-A7D5-86C8AD57D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9CF3AA-6842-4F76-AB13-9F3FC2EF1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AFBDEB-ED6F-4206-83CA-7975721058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3ADE31-8DAD-4F54-9D99-3F2AA8E2C7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823690-71CC-40C6-88D5-FDF0754C51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C6377-71EE-44D3-9C89-1A680A18A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1A274E-7FB9-4E7B-851A-F6DAC24C49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50C5E9-9346-4ED1-AA9C-D7AC2B0E0B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372FAA-E047-4C9B-A081-8EDF51DC3C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F3D3BE-AF3C-45AD-902A-C373EF1D3C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656E3C-5A1D-4E1A-8E3B-00429914D4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7752FB-D988-45F8-B749-8BE2FBA835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FF26E1-2E85-41C5-A4F8-50A06255C2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9911B-288D-41BA-817C-473D56FD3D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02F2C8-862C-46E7-8C10-FE8D24130C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CB73E1-EE12-4929-A6BD-95E34F3AA7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06C87-EF4F-421B-9B13-EE2DA7A3D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DF9457-1529-4759-867F-BED5797DE7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700357-9A29-47D6-8390-83EF9231B1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AD6CE2-DF73-414B-A045-DA7174707A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3F32C3-2B0B-4DFE-95B8-A49D598F3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2DB996-0419-4A5E-BE6E-99631FD807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59AC9A-B9C3-4EEC-AD2C-04F9B44513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827C30-B3B2-43DC-BAEB-83785B3339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5F28B-C952-450A-95FB-13B9D1C39A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C7E423-3F64-47D2-84E1-C077FBE2F2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9F1D6E-537D-4AC7-AD78-3C2DE062CF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0C3CA-018D-410E-BFC7-A63F88900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97FB7D-BFBD-4C1B-9284-7ACDA01A5E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24D2E2-7E7C-4AEB-9407-B26081DD23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31EBB4-41E1-47D8-BBED-BF51FD55B4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2F27D1-C212-446F-AA8F-6BDBA60CC4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201761-BF3F-4774-8BD9-7CD5F4414D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D00353-D748-435F-8B65-0146295E29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E4C538-4BD6-4E8D-ACEE-615AC65E9E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BF5216-347D-4E40-AE95-56755443D8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39944A-6970-4FB3-A31A-517F0B03E9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3A663B-306D-45CE-9012-8830EA020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A2AC6-18F4-4E4A-A601-13B9973C6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EE5EBE-E0C9-46D7-8640-325D6F1D5E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592E2A-0694-460A-B6C9-7389FE094E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A470A2-1B67-4D07-BD3A-CE71DE0B93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4FB719-9724-4F79-8EE3-B8331D3E3E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F0961D-DBEF-46DB-A810-B8D3514707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E0413A-69DC-491C-952B-9867FA5A71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BDF7C9-0767-49C0-92C4-8CC7A0F0EA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60D15A-A6CF-4CD7-AAC1-51DF20C377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5EC2A3-3573-4008-B904-21D0F365B4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FE105F-FFDD-415A-8274-6967C06241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A4EC5-73EF-4BBB-985B-55E922D21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ABF9D9-8B88-486B-92BF-A1E43CD5DE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C9AC3A-01B8-4AE1-A34A-88DFED312E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0299D8-2C28-4F82-88FF-9A2AF2F45F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177ECF-B00F-4125-AFC4-ED2184CF9A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92D4C1-D27D-49F2-B704-FE1C0763A7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8EF020-7067-418A-A45D-0E89EBDAA6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ED4F00-E1B1-4C76-8EA3-67C4862B22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649822-D69F-4412-B40E-B54257B3F1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0EE2B8-9B1C-4D29-B6A9-12B300B73F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3A77DA-CBD7-41BC-86B3-4048BDE8E7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6BFEC-591E-4CB3-9965-9F2D645AF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0A5476-5B4D-4545-A8AD-E35252E8B9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E27E6E-E9DA-42E9-838D-58F1DB27B7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094C17-76CE-4D87-AB7C-95D2A808F6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16957C-EC4A-4ECC-BFBA-4FFEF30F45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451FF9-2D4D-4716-9A89-A333870896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D149D5-5743-4725-992B-28E42ECD0C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3F4F43-73E0-48CE-A371-12C9582D78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508AB0-E556-4AFE-9EB3-3FF5825165A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226F0E-A039-4BF6-B62B-5AF41ACF58D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A0B1EB-4B93-45A0-B74E-536229CAAF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A3BB0-E3DE-44D9-AF45-89322378C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A361261-AD1E-4C08-8EEB-CF12043E5E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3B72C7-5DAB-4FD6-9453-CDA05917D0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5207D4-2EF9-4998-9491-3DF7EE16A8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A60CCA-4F7B-477E-ABFC-92BDDBFCDF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603D0D-9B53-4893-8334-AF49301120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7021C6-B21B-4174-86AF-86C92768E0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38A47F-759E-4186-A80F-46C7DDC3FF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B370C0-2EAA-41D8-B7AA-104D418A8A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F9ED9D-3C4A-43E1-862A-5F200FA854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7A7A0C-7988-4040-82D8-DF20BB5167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D5DE7-2F31-4EA9-8D95-152E310F5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756729-B980-4CDA-92EE-C2A901102A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9274965-19A3-4D33-B187-3801F3F22C5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9521E7-EE03-4F26-87E7-0196BC405F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C5B6AD-8EDC-4E46-AEA1-CFC8B0C6B2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0E3BC2-BD9E-41D4-9FC7-D0FFD28A1F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BB888A-E20C-42F0-9423-899283BD78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3643FE-7EFB-4105-B7DF-91C03631F0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1EAC04-09F1-4892-BB9A-22B3CFF2F1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E729D7A-D498-4E1A-AA20-20DAC02E9A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34EEB6-9373-4300-BA0D-17BF1052E4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CC69-8840-4708-91C9-636D38D44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782ACE-6572-49FA-96D5-1020A69F47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C2034BD-5D11-409E-AA4A-E8876E89DC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80088D-E626-4053-9760-6D4FB69912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8C4B021-5E7D-4AD7-80C2-5D4F914CC2E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93720FD-D616-4806-9298-B1FC7001BB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FBEA96-1C9A-42AC-8024-EAD20A39C0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D288CF-7A2F-432A-B30F-6BB766BD59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35811A-BFC3-45A9-9EFE-55A5883543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91716F-569F-4C8C-BD5D-B14A23E585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4A8118-E3CD-49FD-B62C-AB976CA63C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A919-05CE-48AF-A903-FE874E0D9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821AC-40E8-41BF-A054-C160498BD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B51331-F0FE-4B26-9FD7-FA68B3D000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7C30A9-129D-4C14-936C-677BE16490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D16DE0-F0A9-42E9-B34F-BCC0EC013A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6E67C77-70DF-4924-B973-A1F4E4926E3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0932172-FB40-4B47-AF2C-D9B7240DAD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EC752-4C27-4D03-BD64-DDCA71AA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77D32-7DA1-4DC2-BC12-A1EFD939D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7A83B-0DB2-4525-9DDA-2D6FA6170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DB45E-F90E-43C6-A7FB-402B66462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8D148-DD58-462E-8E83-78FBD720B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4E0B0-5ABE-4D68-98DE-3B8D49FED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8C31C5-C1E1-486E-A44F-2840CFF58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E8A5B-FF39-46CD-9FD1-F84C46ED4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0CA6A-22BD-47E8-B75F-BF5371BE0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4AB9-4845-470F-B347-2BFBC2022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A5B1A-C770-47DB-A2E9-A9653CB695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03CA6-3975-4B9E-8741-234C3E48A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B7EB5-C586-4179-9795-ADBCABEEA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D5815-182F-4478-A876-5E3A5AE02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2C828-FA04-4C5B-9EA2-17D9A8B75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CF31A5-BB79-4132-BDC0-1C41B6B6E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924BB-8AFF-46BB-910A-F70AFB384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0BF179-B413-46BA-B5CA-3B43BEDBC1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53CA7-7E13-4FE5-B6DB-560BA1E69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02EB1-FDE7-4EF0-9338-D3E0C37F6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4C5B7-669A-43CE-8CB9-6352A3446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4F957-117B-4A61-87BF-F0D4F85BF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FDCFF-A59C-4801-863C-AB7E8D4B4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B670E-4842-407E-82A7-78E5F9EA4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1C9CC-8337-430A-B479-5EB42CA5B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FFF1D-36B8-4E48-BB9E-ACD50F4C0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99691-995B-4BE8-9896-883D2DF8E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AB4C6-E89A-40A1-BBB5-3694CB2C5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543D60-74A9-4EC3-86A0-CBEBAFDC87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674EE1-3E53-4EC7-83ED-E76ED4342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3187ED-DE07-49FB-ACB6-7998549E8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788D-8B18-4751-9BEA-7CBC5DF6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DC149-3720-42C6-9DD4-1AF01624B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126F4-D515-43C1-9B49-96961F314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B2E97-B29A-4E74-AB0D-60D2FD030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F9299-3CB3-4E2D-8A4B-27A7E8314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E94D3-6967-4549-9A69-5CA1A86F5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2F04D-5FC7-450D-9BA5-6B2D7303C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B5A68-9A7C-469F-96BB-5395C2AE9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05420-A6EF-4543-AC8A-06DC88DD2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28EEA-6E74-4F67-A2EC-6A19C30C6B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6BB35-5A0B-4234-9535-68EFF313C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03F2D-E694-4025-952B-9353E202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5ADA1C-C848-41C1-94D3-46EADFCF58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B0875-AEEA-42B6-8242-850A4D086A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97B21-52BD-452D-9119-DF5E08F67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75099-3E73-40DE-8DAD-186368A47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70FA4-E973-4D3A-B86C-637067D57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69AEC-51DC-402B-AAC6-E8DB764EC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C9CB2-6A9E-44DD-8564-CA6DB3CAC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C2D7A-5EB7-4D03-9410-6A7D4B382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4A8C4-9D22-470D-8E5C-E6A154D2E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D2C75-68E0-4AEA-8E8B-F549F2D48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8EA6-ECC3-4BF5-942E-9DC050B60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872C36-8CF8-4C1F-8EC3-18D53FFCD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899116-D76B-4EE2-B5A8-8F6707774F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40ADD5-D88D-4053-B266-7ACCEFAB38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B11659-C17F-400E-A34D-462D8FACB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FBB7B-542D-4329-820B-0BFD98E02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B4FA9-4502-4B25-89A6-CFBC2E674E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3363D-9865-49B2-B55A-313CE0381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DEB52A-4078-48E9-A177-DD26AE460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F35D09-3FDC-4FA8-A6A9-FEABFE7AA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BEBF0-0BA2-4C7B-A06D-D42F45DB5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430F9-CF99-4164-925C-5D17494EE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F2D71-56DB-4454-94AA-1202C1500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66501-B8DF-4AAF-B19E-C69ED8A3D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C2069-1739-4DAE-BDCD-3BD2C4376C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E6091-04FA-4086-AEC1-CD44B20D45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702318-2780-477B-A376-04CE126060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6C7D35-0378-40F5-BCEE-A641201769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D2E5E-1B4A-4036-A0EA-D4A4F2985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2CFD4-3BEA-49A8-AE63-0DB15137E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F18C0-3841-412E-A526-FD8750C0B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4943A-1FA5-435D-A37E-C4065F3F2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0CA2-2358-4DD2-8B9E-53446EBA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236B1-1F3C-460D-A428-32BABB7B1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E00DF-D845-4185-871F-45522E55F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37AE89-85BC-4E0E-B2F2-CD9C17725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D7705-46CB-48CE-9E78-0A1CB9089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0187A-BDFF-4FFC-B5B3-7D9D00DE0E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29749B-403F-4523-9D7B-BA1AD1569C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2881A-1954-4A4F-9987-D9A729FE5B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EB83F6-2D9A-45E9-9EF0-D11A998D87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F76E67-125A-4108-A0EB-A35EDD5B0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BDD93-C9A4-42CF-869A-7E9AE9672B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29ED-2A5F-42B7-8236-2F5D653DA68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31AD-3256-407B-A21B-E3C71FCC81C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E445-F3AD-4914-9D74-944D5AAE1CEE}"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1A7C-2179-48B0-9382-78712CA9240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894C-7BE8-4630-B01D-C5F956DE513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98D5-0DB0-43A8-B2DE-84C7076120D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EF43-CF11-4A2D-A35A-6B0ED86EDB3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741-D9C2-4A56-A2FB-8BA2655E655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47B7-4A61-4D87-8735-4BB21574BE78}"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AB1F-D300-4E0D-8802-8FB4DD3DF724}"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27BF-1FB2-4AFD-BA71-A0B43D7B7B9F}"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D65B-6448-4D48-9A0D-E1A0F08FADA4}"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9468-311A-4D05-A90C-FFD170CA29C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ED57-029B-4FA0-A89D-1318934AAAF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902A-75F7-41CE-AD80-50FA9FB2824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95C8-09BE-4A2C-BEFE-C05AE6062470}"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4AED-D8B6-4E9B-A4D0-59F95C91D2B8}"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3600" spc="-1" strike="noStrike">
                <a:solidFill>
                  <a:srgbClr val="262626"/>
                </a:solidFill>
                <a:latin typeface="Century Gothic"/>
              </a:rPr>
              <a:t>PROGETTO</a:t>
            </a:r>
            <a:br>
              <a:rPr sz="3600"/>
            </a:br>
            <a:r>
              <a:rPr b="1" i="1" lang="it-IT" sz="3600" spc="-1" strike="noStrike">
                <a:solidFill>
                  <a:srgbClr val="262626"/>
                </a:solidFill>
                <a:latin typeface="Century Gothic"/>
              </a:rPr>
              <a:t>D.O.N.N.A</a:t>
            </a:r>
            <a:r>
              <a:rPr b="1" lang="it-IT" sz="3600" spc="-1" strike="noStrike">
                <a:solidFill>
                  <a:srgbClr val="262626"/>
                </a:solidFill>
                <a:latin typeface="Century Gothic"/>
              </a:rPr>
              <a:t>.</a:t>
            </a:r>
            <a:br>
              <a:rPr sz="3600"/>
            </a:br>
            <a:br>
              <a:rPr sz="3600"/>
            </a:br>
            <a:r>
              <a:rPr b="0" lang="it-IT" sz="3600" spc="-1" strike="noStrike">
                <a:solidFill>
                  <a:srgbClr val="262626"/>
                </a:solidFill>
                <a:latin typeface="Century Gothic"/>
              </a:rPr>
              <a:t>“</a:t>
            </a:r>
            <a:r>
              <a:rPr b="0" lang="it-IT" sz="3600" spc="-1" strike="noStrike">
                <a:solidFill>
                  <a:srgbClr val="262626"/>
                </a:solidFill>
                <a:latin typeface="comic"/>
              </a:rPr>
              <a:t>Dalle Onore Non Negarle Amore”</a:t>
            </a:r>
            <a:br>
              <a:rPr sz="3600"/>
            </a:br>
            <a:endParaRPr b="0" lang="en-US" sz="3600" spc="-1" strike="noStrike">
              <a:solidFill>
                <a:srgbClr val="262626"/>
              </a:solidFill>
              <a:latin typeface="Century Gothic"/>
            </a:endParaRPr>
          </a:p>
        </p:txBody>
      </p:sp>
      <p:sp>
        <p:nvSpPr>
          <p:cNvPr id="117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nSpc>
                <a:spcPct val="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indent="0" algn="ctr">
              <a:lnSpc>
                <a:spcPct val="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595959"/>
                </a:solidFill>
                <a:latin typeface="Century Gothic"/>
              </a:rPr>
              <a:t>Anno Scolastico 2017/2018</a:t>
            </a:r>
            <a:endParaRPr b="0" lang="en-US" sz="2400" spc="-1" strike="noStrike">
              <a:solidFill>
                <a:srgbClr val="404040"/>
              </a:solidFill>
              <a:latin typeface="Century Gothic"/>
            </a:endParaRPr>
          </a:p>
          <a:p>
            <a:pPr indent="0" algn="ctr">
              <a:lnSpc>
                <a:spcPct val="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indent="0" algn="ctr">
              <a:lnSpc>
                <a:spcPct val="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595959"/>
                </a:solidFill>
                <a:latin typeface="Century Gothic"/>
              </a:rPr>
              <a:t>I.I.S VIRGILIO </a:t>
            </a:r>
            <a:endParaRPr b="0" lang="en-US" sz="2400" spc="-1" strike="noStrike">
              <a:solidFill>
                <a:srgbClr val="404040"/>
              </a:solidFill>
              <a:latin typeface="Century Gothic"/>
            </a:endParaRPr>
          </a:p>
          <a:p>
            <a:pPr indent="0" algn="ctr">
              <a:lnSpc>
                <a:spcPct val="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595959"/>
                </a:solidFill>
                <a:latin typeface="Century Gothic"/>
              </a:rPr>
              <a:t>MUSSOMELI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76"/>
                                        </p:tgtEl>
                                        <p:attrNameLst>
                                          <p:attrName>style.visibility</p:attrName>
                                        </p:attrNameLst>
                                      </p:cBhvr>
                                      <p:to>
                                        <p:strVal val="visible"/>
                                      </p:to>
                                    </p:set>
                                    <p:animEffect filter="wipe(down)" transition="in">
                                      <p:cBhvr additive="repl">
                                        <p:cTn id="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FINALITA’ DEL PROGETTO</a:t>
            </a:r>
            <a:br>
              <a:rPr sz="3600"/>
            </a:br>
            <a:endParaRPr b="0" lang="en-US" sz="3600" spc="-1" strike="noStrike">
              <a:solidFill>
                <a:srgbClr val="262626"/>
              </a:solidFill>
              <a:latin typeface="Century Gothic"/>
            </a:endParaRPr>
          </a:p>
        </p:txBody>
      </p:sp>
      <p:sp>
        <p:nvSpPr>
          <p:cNvPr id="1179"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1- Acquisire la consapevolezza degli ostacoli sociali e culturali che, nelle diverse società, impediscono il pieno raggiungimento  delle pari opportunità</a:t>
            </a:r>
            <a:endParaRPr b="0" lang="en-US" sz="20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2- Interiorizzare e tradurre nel proprio vissuto l’idea dell</a:t>
            </a:r>
            <a:r>
              <a:rPr b="1" lang="it-IT" sz="2000" spc="-1" strike="noStrike">
                <a:solidFill>
                  <a:srgbClr val="404040"/>
                </a:solidFill>
                <a:latin typeface="Century Gothic"/>
              </a:rPr>
              <a:t>’identico valore di tutti gli esseri umani </a:t>
            </a:r>
            <a:r>
              <a:rPr b="0" lang="it-IT" sz="2000" spc="-1" strike="noStrike">
                <a:solidFill>
                  <a:srgbClr val="404040"/>
                </a:solidFill>
                <a:latin typeface="Century Gothic"/>
              </a:rPr>
              <a:t>indipendentemente dal genere.</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TEMATICHE</a:t>
            </a:r>
            <a:endParaRPr b="0" lang="en-US" sz="3600" spc="-1" strike="noStrike">
              <a:solidFill>
                <a:srgbClr val="262626"/>
              </a:solidFill>
              <a:latin typeface="Century Gothic"/>
            </a:endParaRPr>
          </a:p>
        </p:txBody>
      </p:sp>
      <p:sp>
        <p:nvSpPr>
          <p:cNvPr id="118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1- Essere maschio, essere femmina: gli stereotipi legati al gener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2-La discriminazione contro donne e bambin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3-La violenza contro le donne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EDUCARE AI DIRITTI UMANI</a:t>
            </a:r>
            <a:endParaRPr b="0" lang="en-US" sz="3600" spc="-1" strike="noStrike">
              <a:solidFill>
                <a:srgbClr val="262626"/>
              </a:solidFill>
              <a:latin typeface="Century Gothic"/>
            </a:endParaRPr>
          </a:p>
        </p:txBody>
      </p:sp>
      <p:sp>
        <p:nvSpPr>
          <p:cNvPr id="118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L’educazione ai Diritti Umani ha come scopo principale quello di far prendere coscienza a ciascuno della propria dignità di essere umano, portatore, come tale, di diritti.</a:t>
            </a: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La persona deve assumere opinioni, atteggiamenti e comportamenti che conducano a rispettare se stessi e gli altri, in ogni circostanza e condizione, a prescindere da qualsiasi distinzione di sesso, razza e religione.</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ART. 1  DICHIARAZIONE UNIVERSALE DEI DIRITTI UMANI</a:t>
            </a:r>
            <a:br>
              <a:rPr sz="3600"/>
            </a:br>
            <a:br>
              <a:rPr sz="3600"/>
            </a:br>
            <a:br>
              <a:rPr sz="3600"/>
            </a:br>
            <a:br>
              <a:rPr sz="3600"/>
            </a:br>
            <a:br>
              <a:rPr sz="3600"/>
            </a:br>
            <a:br>
              <a:rPr sz="3600"/>
            </a:br>
            <a:br>
              <a:rPr sz="3600"/>
            </a:br>
            <a:endParaRPr b="0" lang="en-US" sz="3600" spc="-1" strike="noStrike">
              <a:solidFill>
                <a:srgbClr val="262626"/>
              </a:solidFill>
              <a:latin typeface="Century Gothic"/>
            </a:endParaRPr>
          </a:p>
        </p:txBody>
      </p:sp>
      <p:sp>
        <p:nvSpPr>
          <p:cNvPr id="118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 </a:t>
            </a:r>
            <a:r>
              <a:rPr b="0" lang="it-IT" sz="1800" spc="-1" strike="noStrike">
                <a:solidFill>
                  <a:srgbClr val="404040"/>
                </a:solidFill>
                <a:latin typeface="Century Gothic"/>
              </a:rPr>
              <a:t>Tutti gli esseri umani nascono liberi in dignità e diritti. Essi sono dotati di ragione e coscienza e devono agire gli uni verso gli altri in spirito di fratellanza”</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LA DONNA E I DIRITTI UMANI</a:t>
            </a:r>
            <a:endParaRPr b="0" lang="en-US" sz="3600" spc="-1" strike="noStrike">
              <a:solidFill>
                <a:srgbClr val="262626"/>
              </a:solidFill>
              <a:latin typeface="Century Gothic"/>
            </a:endParaRPr>
          </a:p>
        </p:txBody>
      </p:sp>
      <p:sp>
        <p:nvSpPr>
          <p:cNvPr id="118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404040"/>
                </a:solidFill>
                <a:latin typeface="Century Gothic"/>
              </a:rPr>
              <a:t>I diritti umani delle donne e delle bambine sono parte inalienabile, integrale e indivisibile, dei Diritti Umani Universali.</a:t>
            </a:r>
            <a:endParaRPr b="0" lang="en-US" sz="19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404040"/>
                </a:solidFill>
                <a:latin typeface="Century Gothic"/>
              </a:rPr>
              <a:t>Spesso questi diritti vengono negati e ciò si fonda sulla DISCRIMINAZIONE legata al genere.</a:t>
            </a:r>
            <a:endParaRPr b="0" lang="en-US" sz="19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404040"/>
                </a:solidFill>
                <a:latin typeface="Century Gothic"/>
              </a:rPr>
              <a:t>Il lavoro contro questa discriminazione deve iniziare dal quotidiano, dalla discriminazione sottile di alcuni comportamenti dei compagni verso le compagne, ma anche dai ruoli che inconsciamente le ragazze sono spinte ad assumere e che trasmetteranno ai propri figli, maschi e femmine, imprigionando se stesse in uno stato subalterno e perpetuando questo modello.</a:t>
            </a:r>
            <a:endParaRPr b="0" lang="en-US" sz="19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OBIETTIVO</a:t>
            </a:r>
            <a:r>
              <a:rPr b="1"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Si spera con questo lavoro di aiutare i nostri giovani  a riflettere , poiché solo la consapevolezza dei propri atteggiamenti e dei condizionamenti e stereotipi di cui essi sono intessuti può aiutare a modificare  i propri comportamenti per raggiungere quella piena, sostanziale e non formale , parità tra gli esseri umani.</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262626"/>
                </a:solidFill>
                <a:latin typeface="comic"/>
              </a:rPr>
              <a:t>INNO ALLA DONNA</a:t>
            </a:r>
            <a:endParaRPr b="0" lang="en-US" sz="3600" spc="-1" strike="noStrike">
              <a:solidFill>
                <a:srgbClr val="262626"/>
              </a:solidFill>
              <a:latin typeface="Century Gothic"/>
            </a:endParaRPr>
          </a:p>
        </p:txBody>
      </p:sp>
      <p:sp>
        <p:nvSpPr>
          <p:cNvPr id="1191"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tutte le violenze consumate su di Lei,</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tutte le umiliazioni che ha subi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il suo corpo che avete sfrutta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la sua intelligenza che avete calpesta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l’ignoranza in cui l’avete lasciata,</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la libertà che le avete nega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la bocca che le avete tappa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le ali che le avete taglia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Per tutto questo:</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0" lang="it-IT" sz="2000" spc="-1" strike="noStrike">
                <a:solidFill>
                  <a:srgbClr val="404040"/>
                </a:solidFill>
                <a:latin typeface="Century Gothic"/>
              </a:rPr>
              <a:t>in piedi, Signori, davanti ad una Donna.     </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404040"/>
                </a:solidFill>
                <a:latin typeface="Century Gothic"/>
              </a:rPr>
              <a:t>                                              </a:t>
            </a:r>
            <a:r>
              <a:rPr b="0" lang="it-IT" sz="2000" spc="-1" strike="noStrike">
                <a:solidFill>
                  <a:srgbClr val="404040"/>
                </a:solidFill>
                <a:latin typeface="Century Gothic"/>
              </a:rPr>
              <a:t>William Shakespeare.</a:t>
            </a: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0T18:38:41Z</dcterms:created>
  <dc:creator>HP</dc:creator>
  <dc:description/>
  <dc:language>en-US</dc:language>
  <cp:lastModifiedBy>vincenza calà</cp:lastModifiedBy>
  <dcterms:modified xsi:type="dcterms:W3CDTF">2018-01-11T17:58:43Z</dcterms:modified>
  <cp:revision>30</cp:revision>
  <dc:subject/>
  <dc:title>Diapositiva 1</dc:title>
</cp:coreProperties>
</file>